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E214-BBFB-4415-863A-34FCD5777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5E73-AD7D-4F79-845F-BF8F4916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CD9A-FE2C-4FA9-A336-D619E48D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9A83-9248-4660-A738-363795E8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238C-F0D2-4A81-94B3-18B5DDA3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A908-CE8D-4D8A-A811-BFBC3B8A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88BA-CD95-4940-900C-703BCD2B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D034-4DE6-4B04-86EA-48171863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D53F-E19B-4A35-8471-AE39033B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1ED1-6DE3-4D79-ABC6-A9F25AF4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3EEC-A899-4F18-A795-180648FC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F2FF-E7AC-42E0-8588-6C684AFE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C095-A17B-4C2C-84C2-6D303D5D9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images.google.co.uk/imgres?imgurl=http://www.icmag.com/gallery/data/500/7710Rapidtest_soil_test_kit.jpg&amp;imgrefurl=http://www.icmag.com/ic/showthread.php%3Ft%3D49477&amp;usg=__TAHpeAZSpOLnwlwqo4rPa2qIBbM=&amp;h=562&amp;w=600&amp;sz=96&amp;hl=en&amp;start=17&amp;tbnid=Bp9daAepOBhlRM:&amp;tbnh=126&amp;tbnw=135&amp;prev=/images%3Fq%3Dtesting%2Bacid%2Bsoils%26gbv%3D2%26hl%3Den%26safe%3Doff%26sa%3DG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9999"/>
                </a:solidFill>
                <a:uFillTx/>
                <a:latin typeface="Arial"/>
              </a:rPr>
              <a:t>How does your garden gr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928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oil is a mixture of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Because each type of soil has different amounts of each part, there are many types of soil. Plants need m___________ to help them grow and some soils have more than others. Some soils hold more w_______ than others. This affects which plants grow there and what you are able to gr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40360" y="1052640"/>
            <a:ext cx="2303640" cy="1433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300720" y="4581360"/>
            <a:ext cx="2124000" cy="1594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95280" y="4581360"/>
            <a:ext cx="2195640" cy="1648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708360" y="4581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a_______ of the soil affects which minerals can be absorbed by plants for growth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minerals are lacking in a very pH 5 so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19280" y="2708280"/>
            <a:ext cx="576108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would a farmer like to be able to control the acidity of his soil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11522" r="0" b="10130"/>
          <a:stretch/>
        </p:blipFill>
        <p:spPr>
          <a:xfrm>
            <a:off x="2268360" y="1628640"/>
            <a:ext cx="3167280" cy="1627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2303640" cy="1592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211640" y="1628640"/>
            <a:ext cx="2448000" cy="1632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624720" y="1628640"/>
            <a:ext cx="2519280" cy="1679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rcRect l="0" t="12725" r="0" b="43160"/>
          <a:stretch/>
        </p:blipFill>
        <p:spPr>
          <a:xfrm>
            <a:off x="1835280" y="3500280"/>
            <a:ext cx="53244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treat an acid soil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3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227640" y="1341360"/>
            <a:ext cx="1729080" cy="1146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724360" y="2781360"/>
            <a:ext cx="2159280" cy="1439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910640" y="2565360"/>
            <a:ext cx="1233360" cy="1727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04000" y="4365720"/>
            <a:ext cx="15112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84280" y="189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much have you learn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059920" y="1313640"/>
            <a:ext cx="5027400" cy="4884480"/>
            <a:chOff x="2059920" y="1313640"/>
            <a:chExt cx="5027400" cy="4884480"/>
          </a:xfrm>
        </p:grpSpPr>
        <p:sp>
          <p:nvSpPr>
            <p:cNvPr id="65" name="_s7173"/>
            <p:cNvSpPr/>
            <p:nvPr/>
          </p:nvSpPr>
          <p:spPr>
            <a:xfrm flipH="1" flipV="1">
              <a:off x="3362760" y="3145320"/>
              <a:ext cx="606960" cy="30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7174"/>
            <p:cNvSpPr/>
            <p:nvPr/>
          </p:nvSpPr>
          <p:spPr>
            <a:xfrm>
              <a:off x="2059920" y="2230920"/>
              <a:ext cx="1397160" cy="122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7175"/>
            <p:cNvSpPr/>
            <p:nvPr/>
          </p:nvSpPr>
          <p:spPr>
            <a:xfrm flipH="1">
              <a:off x="3362400" y="4060800"/>
              <a:ext cx="608760" cy="30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7176"/>
            <p:cNvSpPr/>
            <p:nvPr/>
          </p:nvSpPr>
          <p:spPr>
            <a:xfrm>
              <a:off x="2062080" y="4062600"/>
              <a:ext cx="1397160" cy="1221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7177"/>
            <p:cNvSpPr/>
            <p:nvPr/>
          </p:nvSpPr>
          <p:spPr>
            <a:xfrm>
              <a:off x="4573080" y="4363200"/>
              <a:ext cx="1800" cy="61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7178"/>
            <p:cNvSpPr/>
            <p:nvPr/>
          </p:nvSpPr>
          <p:spPr>
            <a:xfrm>
              <a:off x="3877200" y="4976640"/>
              <a:ext cx="1397160" cy="1221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7179"/>
            <p:cNvSpPr/>
            <p:nvPr/>
          </p:nvSpPr>
          <p:spPr>
            <a:xfrm>
              <a:off x="5175720" y="4059000"/>
              <a:ext cx="606600" cy="30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7180"/>
            <p:cNvSpPr/>
            <p:nvPr/>
          </p:nvSpPr>
          <p:spPr>
            <a:xfrm>
              <a:off x="5690160" y="4060800"/>
              <a:ext cx="1397160" cy="1221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7181"/>
            <p:cNvSpPr/>
            <p:nvPr/>
          </p:nvSpPr>
          <p:spPr>
            <a:xfrm flipV="1">
              <a:off x="5175720" y="3145320"/>
              <a:ext cx="606600" cy="30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7182"/>
            <p:cNvSpPr/>
            <p:nvPr/>
          </p:nvSpPr>
          <p:spPr>
            <a:xfrm>
              <a:off x="5690160" y="2229120"/>
              <a:ext cx="1397160" cy="1221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7183"/>
            <p:cNvSpPr/>
            <p:nvPr/>
          </p:nvSpPr>
          <p:spPr>
            <a:xfrm flipV="1">
              <a:off x="4573080" y="2532960"/>
              <a:ext cx="0" cy="61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7184"/>
            <p:cNvSpPr/>
            <p:nvPr/>
          </p:nvSpPr>
          <p:spPr>
            <a:xfrm>
              <a:off x="3875400" y="1313640"/>
              <a:ext cx="1397160" cy="1221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7185"/>
            <p:cNvSpPr/>
            <p:nvPr/>
          </p:nvSpPr>
          <p:spPr>
            <a:xfrm>
              <a:off x="3875400" y="3146760"/>
              <a:ext cx="1397160" cy="1221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o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00:51:46Z</dcterms:created>
  <dc:creator>me</dc:creator>
  <dc:description/>
  <dc:language>en-US</dc:language>
  <cp:lastModifiedBy>NicholasHardy</cp:lastModifiedBy>
  <dcterms:modified xsi:type="dcterms:W3CDTF">2009-09-23T02:52:04Z</dcterms:modified>
  <cp:revision>3</cp:revision>
  <dc:subject/>
  <dc:title>How does your garden grow?</dc:title>
</cp:coreProperties>
</file>